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06080" y="4019400"/>
            <a:ext cx="12192120" cy="75960"/>
            <a:chOff x="406080" y="4019400"/>
            <a:chExt cx="12192120" cy="75960"/>
          </a:xfrm>
        </p:grpSpPr>
        <p:sp>
          <p:nvSpPr>
            <p:cNvPr id="1" name=""/>
            <p:cNvSpPr/>
            <p:nvPr/>
          </p:nvSpPr>
          <p:spPr>
            <a:xfrm flipH="1">
              <a:off x="406080" y="401940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406080" y="4093560"/>
              <a:ext cx="12192120" cy="1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11455560" y="5537160"/>
            <a:ext cx="1104840" cy="179280"/>
            <a:chOff x="11455560" y="5537160"/>
            <a:chExt cx="1104840" cy="179280"/>
          </a:xfrm>
        </p:grpSpPr>
        <p:pic>
          <p:nvPicPr>
            <p:cNvPr id="4" name="" descr=""/>
            <p:cNvPicPr/>
            <p:nvPr/>
          </p:nvPicPr>
          <p:blipFill>
            <a:blip r:embed="rId3"/>
            <a:stretch/>
          </p:blipFill>
          <p:spPr>
            <a:xfrm>
              <a:off x="1236996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4"/>
            <a:stretch/>
          </p:blipFill>
          <p:spPr>
            <a:xfrm>
              <a:off x="12065040" y="553716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5"/>
            <a:stretch/>
          </p:blipFill>
          <p:spPr>
            <a:xfrm>
              <a:off x="1176048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6"/>
            <a:stretch/>
          </p:blipFill>
          <p:spPr>
            <a:xfrm>
              <a:off x="1145556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" name=""/>
          <p:cNvGrpSpPr/>
          <p:nvPr/>
        </p:nvGrpSpPr>
        <p:grpSpPr>
          <a:xfrm>
            <a:off x="457200" y="5537160"/>
            <a:ext cx="1104840" cy="179280"/>
            <a:chOff x="457200" y="5537160"/>
            <a:chExt cx="1104840" cy="179280"/>
          </a:xfrm>
        </p:grpSpPr>
        <p:pic>
          <p:nvPicPr>
            <p:cNvPr id="9" name="" descr=""/>
            <p:cNvPicPr/>
            <p:nvPr/>
          </p:nvPicPr>
          <p:blipFill>
            <a:blip r:embed="rId7"/>
            <a:stretch/>
          </p:blipFill>
          <p:spPr>
            <a:xfrm>
              <a:off x="137160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8"/>
            <a:stretch/>
          </p:blipFill>
          <p:spPr>
            <a:xfrm>
              <a:off x="1066680" y="553716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9"/>
            <a:stretch/>
          </p:blipFill>
          <p:spPr>
            <a:xfrm>
              <a:off x="76212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10"/>
            <a:stretch/>
          </p:blipFill>
          <p:spPr>
            <a:xfrm>
              <a:off x="45720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" name=""/>
          <p:cNvGrpSpPr/>
          <p:nvPr/>
        </p:nvGrpSpPr>
        <p:grpSpPr>
          <a:xfrm>
            <a:off x="10541160" y="5140080"/>
            <a:ext cx="2057400" cy="547920"/>
            <a:chOff x="10541160" y="5140080"/>
            <a:chExt cx="2057400" cy="547920"/>
          </a:xfrm>
        </p:grpSpPr>
        <p:sp>
          <p:nvSpPr>
            <p:cNvPr id="14" name=""/>
            <p:cNvSpPr/>
            <p:nvPr/>
          </p:nvSpPr>
          <p:spPr>
            <a:xfrm flipV="1">
              <a:off x="10655640" y="5140080"/>
              <a:ext cx="0" cy="2300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10652400" y="536580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10652400" y="544212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7" name=""/>
            <p:cNvSpPr/>
            <p:nvPr/>
          </p:nvSpPr>
          <p:spPr>
            <a:xfrm flipV="1">
              <a:off x="10655640" y="5445360"/>
              <a:ext cx="0" cy="2426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591920" y="5140440"/>
              <a:ext cx="0" cy="5349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10553760" y="514980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10541160" y="568332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406440" y="5141520"/>
            <a:ext cx="2057040" cy="547560"/>
            <a:chOff x="406440" y="5141520"/>
            <a:chExt cx="2057040" cy="547560"/>
          </a:xfrm>
        </p:grpSpPr>
        <p:sp>
          <p:nvSpPr>
            <p:cNvPr id="22" name=""/>
            <p:cNvSpPr/>
            <p:nvPr/>
          </p:nvSpPr>
          <p:spPr>
            <a:xfrm flipH="1">
              <a:off x="406440" y="535320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406440" y="542988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4" name=""/>
            <p:cNvSpPr/>
            <p:nvPr/>
          </p:nvSpPr>
          <p:spPr>
            <a:xfrm flipV="1">
              <a:off x="2336760" y="5141520"/>
              <a:ext cx="0" cy="2163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" name=""/>
            <p:cNvSpPr/>
            <p:nvPr/>
          </p:nvSpPr>
          <p:spPr>
            <a:xfrm flipV="1">
              <a:off x="2336760" y="5421960"/>
              <a:ext cx="0" cy="26712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" name=""/>
            <p:cNvSpPr/>
            <p:nvPr/>
          </p:nvSpPr>
          <p:spPr>
            <a:xfrm flipV="1">
              <a:off x="2400480" y="5141520"/>
              <a:ext cx="0" cy="5346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2349360" y="514980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2349360" y="568440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sp>
        <p:nvSpPr>
          <p:cNvPr id="29" name="PlaceHolder 1"/>
          <p:cNvSpPr>
            <a:spLocks noGrp="1"/>
          </p:cNvSpPr>
          <p:nvPr>
            <p:ph type="body"/>
          </p:nvPr>
        </p:nvSpPr>
        <p:spPr>
          <a:xfrm>
            <a:off x="2400120" y="5143680"/>
            <a:ext cx="8204040" cy="54576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txBody>
          <a:bodyPr lIns="50760" rIns="50760" tIns="50760" bIns="50760" anchor="ctr">
            <a:normAutofit fontScale="1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title"/>
          </p:nvPr>
        </p:nvSpPr>
        <p:spPr>
          <a:xfrm>
            <a:off x="812520" y="4102200"/>
            <a:ext cx="113792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445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448" name="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041480" y="2997000"/>
            <a:ext cx="52704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056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796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8960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21212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52" name=""/>
          <p:cNvSpPr/>
          <p:nvPr/>
        </p:nvSpPr>
        <p:spPr>
          <a:xfrm>
            <a:off x="6502320" y="3222720"/>
            <a:ext cx="0" cy="5603760"/>
          </a:xfrm>
          <a:prstGeom prst="line">
            <a:avLst/>
          </a:prstGeom>
          <a:ln w="12600">
            <a:solidFill>
              <a:srgbClr val="6d6d6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491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494" name="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692400" y="2997000"/>
            <a:ext cx="527076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056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796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8960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21212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98" name=""/>
          <p:cNvSpPr/>
          <p:nvPr/>
        </p:nvSpPr>
        <p:spPr>
          <a:xfrm>
            <a:off x="6502320" y="3222720"/>
            <a:ext cx="0" cy="5603760"/>
          </a:xfrm>
          <a:prstGeom prst="line">
            <a:avLst/>
          </a:prstGeom>
          <a:ln w="12600">
            <a:solidFill>
              <a:srgbClr val="6d6d6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537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1041120" y="1549080"/>
            <a:ext cx="10922040" cy="666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33120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2856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97164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31436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65708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65708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65708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69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35712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771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104724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41660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114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927000" y="4775040"/>
            <a:ext cx="5626080" cy="228600"/>
            <a:chOff x="927000" y="4775040"/>
            <a:chExt cx="5626080" cy="228600"/>
          </a:xfrm>
        </p:grpSpPr>
        <p:sp>
          <p:nvSpPr>
            <p:cNvPr id="157" name=""/>
            <p:cNvSpPr/>
            <p:nvPr/>
          </p:nvSpPr>
          <p:spPr>
            <a:xfrm>
              <a:off x="1143000" y="4876560"/>
              <a:ext cx="5181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6324480" y="477504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927000" y="4775040"/>
              <a:ext cx="22860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120" y="888840"/>
            <a:ext cx="5397480" cy="387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041120" y="5029200"/>
            <a:ext cx="5397480" cy="401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200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406080" y="399960"/>
            <a:ext cx="12192120" cy="75960"/>
            <a:chOff x="406080" y="399960"/>
            <a:chExt cx="12192120" cy="75960"/>
          </a:xfrm>
        </p:grpSpPr>
        <p:sp>
          <p:nvSpPr>
            <p:cNvPr id="243" name=""/>
            <p:cNvSpPr/>
            <p:nvPr/>
          </p:nvSpPr>
          <p:spPr>
            <a:xfrm flipH="1">
              <a:off x="406080" y="39996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406080" y="474120"/>
              <a:ext cx="12192120" cy="1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455560" y="1917720"/>
            <a:ext cx="1104840" cy="179280"/>
            <a:chOff x="11455560" y="1917720"/>
            <a:chExt cx="1104840" cy="179280"/>
          </a:xfrm>
        </p:grpSpPr>
        <p:pic>
          <p:nvPicPr>
            <p:cNvPr id="246" name="" descr=""/>
            <p:cNvPicPr/>
            <p:nvPr/>
          </p:nvPicPr>
          <p:blipFill>
            <a:blip r:embed="rId3"/>
            <a:stretch/>
          </p:blipFill>
          <p:spPr>
            <a:xfrm>
              <a:off x="1236996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4"/>
            <a:stretch/>
          </p:blipFill>
          <p:spPr>
            <a:xfrm>
              <a:off x="12065040" y="191772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5"/>
            <a:stretch/>
          </p:blipFill>
          <p:spPr>
            <a:xfrm>
              <a:off x="1176048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6"/>
            <a:stretch/>
          </p:blipFill>
          <p:spPr>
            <a:xfrm>
              <a:off x="1145556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"/>
          <p:cNvGrpSpPr/>
          <p:nvPr/>
        </p:nvGrpSpPr>
        <p:grpSpPr>
          <a:xfrm>
            <a:off x="457200" y="1917720"/>
            <a:ext cx="1104840" cy="179280"/>
            <a:chOff x="457200" y="1917720"/>
            <a:chExt cx="1104840" cy="179280"/>
          </a:xfrm>
        </p:grpSpPr>
        <p:pic>
          <p:nvPicPr>
            <p:cNvPr id="251" name="" descr=""/>
            <p:cNvPicPr/>
            <p:nvPr/>
          </p:nvPicPr>
          <p:blipFill>
            <a:blip r:embed="rId7"/>
            <a:stretch/>
          </p:blipFill>
          <p:spPr>
            <a:xfrm>
              <a:off x="137160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8"/>
            <a:stretch/>
          </p:blipFill>
          <p:spPr>
            <a:xfrm>
              <a:off x="1066680" y="191772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9"/>
            <a:stretch/>
          </p:blipFill>
          <p:spPr>
            <a:xfrm>
              <a:off x="76212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45720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10541160" y="1520640"/>
            <a:ext cx="2057400" cy="548640"/>
            <a:chOff x="10541160" y="1520640"/>
            <a:chExt cx="2057400" cy="548640"/>
          </a:xfrm>
        </p:grpSpPr>
        <p:sp>
          <p:nvSpPr>
            <p:cNvPr id="256" name=""/>
            <p:cNvSpPr/>
            <p:nvPr/>
          </p:nvSpPr>
          <p:spPr>
            <a:xfrm flipV="1">
              <a:off x="10655640" y="1521000"/>
              <a:ext cx="0" cy="2304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0652400" y="174672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10652400" y="181080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0655640" y="1802520"/>
              <a:ext cx="0" cy="2667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0591920" y="1520640"/>
              <a:ext cx="0" cy="5360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0553760" y="153036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10541160" y="206496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06440" y="1520640"/>
            <a:ext cx="2057040" cy="548640"/>
            <a:chOff x="406440" y="1520640"/>
            <a:chExt cx="2057040" cy="548640"/>
          </a:xfrm>
        </p:grpSpPr>
        <p:sp>
          <p:nvSpPr>
            <p:cNvPr id="264" name=""/>
            <p:cNvSpPr/>
            <p:nvPr/>
          </p:nvSpPr>
          <p:spPr>
            <a:xfrm flipH="1">
              <a:off x="406440" y="173412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406440" y="181080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336760" y="1520640"/>
              <a:ext cx="0" cy="217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336760" y="1802520"/>
              <a:ext cx="0" cy="2667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2400480" y="1520640"/>
              <a:ext cx="0" cy="5360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349360" y="153036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349360" y="206496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2520" y="482760"/>
            <a:ext cx="113792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400120" y="1523520"/>
            <a:ext cx="8204040" cy="54612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txBody>
          <a:bodyPr lIns="50760" rIns="50760" tIns="50760" bIns="50760" anchor="ctr">
            <a:normAutofit fontScale="1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406080" y="3664080"/>
            <a:ext cx="12192120" cy="75600"/>
            <a:chOff x="406080" y="3664080"/>
            <a:chExt cx="12192120" cy="75600"/>
          </a:xfrm>
        </p:grpSpPr>
        <p:sp>
          <p:nvSpPr>
            <p:cNvPr id="310" name=""/>
            <p:cNvSpPr/>
            <p:nvPr/>
          </p:nvSpPr>
          <p:spPr>
            <a:xfrm flipH="1">
              <a:off x="406080" y="366408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406080" y="3738240"/>
              <a:ext cx="12192120" cy="14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06080" y="5987880"/>
            <a:ext cx="12192120" cy="75960"/>
            <a:chOff x="406080" y="5987880"/>
            <a:chExt cx="12192120" cy="75960"/>
          </a:xfrm>
        </p:grpSpPr>
        <p:sp>
          <p:nvSpPr>
            <p:cNvPr id="313" name=""/>
            <p:cNvSpPr/>
            <p:nvPr/>
          </p:nvSpPr>
          <p:spPr>
            <a:xfrm flipH="1">
              <a:off x="406080" y="598788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>
              <a:off x="406080" y="6062040"/>
              <a:ext cx="12192120" cy="1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2520" y="3784680"/>
            <a:ext cx="11379240" cy="218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354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5712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771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104724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41660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399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402" name="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041480" y="2997000"/>
            <a:ext cx="52704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056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796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8960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21212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06" name=""/>
          <p:cNvSpPr/>
          <p:nvPr/>
        </p:nvSpPr>
        <p:spPr>
          <a:xfrm>
            <a:off x="6502320" y="3222720"/>
            <a:ext cx="0" cy="5603760"/>
          </a:xfrm>
          <a:prstGeom prst="line">
            <a:avLst/>
          </a:prstGeom>
          <a:ln w="12600">
            <a:solidFill>
              <a:srgbClr val="6d6d6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12520" y="4102200"/>
            <a:ext cx="113792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Mitochondria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400120" y="5143680"/>
            <a:ext cx="8204040" cy="54576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Julius Walker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Facts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nd in most Eukaryotic Cells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rst found in 1840s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Name was coined by Carl Benda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One of the main proteins in a cel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omposition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69720" y="269208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Made up of the outer mitochondrial membrane, inter membranespace, cristae space, and inner mitochondrial membrane, the matrix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Without the outer membrane this is known as the mitoplasts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Outer membrane encases the entire organelle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Function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Energy conversion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Production of ATP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Heat production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torage of calcium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Reproduction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Divide by binary fission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Very similar to bacteria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