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0A6-E41B-4B6D-AAC0-1DAACA66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26B-66D8-483B-A165-BC3BAD7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B9239-BF30-4A79-84C8-1663210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274D4-8F1E-4643-AA52-3576D863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ABCC1-0AB5-4260-9DC5-F6CD84D8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C71C8-C9B9-43F6-976D-DA650544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2FFA2-B2F7-4CA6-A370-88A4719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9D6C5-93E4-4120-A969-83E2C2B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D45AE-1BD5-46E8-9BF1-360D929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21FD9-F5D2-4B36-A63C-F0D67E94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84297-3A14-4047-99BF-DF2A12CD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BBC28-C913-44D2-9B6C-1781687B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A07-0B26-4E4B-84ED-04EBC5AD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B9E7E-618F-41EE-9A09-75256CDF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B2D00-6F69-429B-877B-7B7E1532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D407F-BF35-4C69-B227-B8C5F117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93CC9-862D-4C58-8F1B-EA83A785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98ACE-AC15-41B2-884F-D6D41EE5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E24E4-D0B3-4E94-A35A-36437C2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ADC7D-2A08-4F8B-B206-3BDEE4A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1CB6F-12DB-43E9-B335-5C71037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CDB73-D52A-4700-8A69-D9D5C2D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9CFF7-276F-486C-BB0D-619E0394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9A0-2798-46D5-ABA5-89A8CCB1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DAD9A-AD43-450D-8BFC-C68214D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96582-75AD-489C-A4DF-436FFA2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493911-1EFB-42E9-85C1-D53E4A8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99B085-99C6-4091-84D2-9BFB09F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60C79F-81A9-45F0-AA42-84749E65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904150-732E-4B7F-B806-8A454BD9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4C8377-CC9D-4213-B91C-A0ABC12C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A2E9E5-44BA-47B3-BBB5-932596E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5366F4-507A-472F-B375-FF23E0DE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63FA75-9A1F-42B4-A918-014F5EA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BA7E57-EBB1-48F6-AE93-37785B87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93C5CB-260A-4396-9EB8-57B13034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56F952-690F-470A-95C0-03E8C7BF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F6456-240A-427D-9670-A61F4A5E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05827-C5BB-47E3-836F-0D89718F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80948-6730-4772-B66D-FD0EC28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9866E-3F00-4ECA-9C2D-1892E0C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5FDC1-5FD3-4ED7-A03A-D770A46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0BA0D-DA58-46C3-A017-9440B57D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70DA6-4E1C-4E53-B85C-AB54FD8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AA912-36B6-4B3C-9D63-148E4A5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8A3AD-1EE4-4C55-ADE6-B588FF5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11093-3C8D-42A3-9E3A-D17DF9F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4796C-3A1D-4929-8E43-D1CB4202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F1356-F0E0-4C02-9279-6D785C5F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8E53D7-5E48-4EF6-A553-A9F03811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50AE82-7510-422F-9B99-80F40DF2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7EC066-3672-4FAE-AF75-F8FB99D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7BC3BC-F304-4AFA-B565-E03FA90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738423-F5D4-4871-89F6-58AA5BE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A92D5A-1983-4A07-841C-27397411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3034C6-DFEC-4C2B-99CB-5F1B9EE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14ADDC-B2B6-4717-A843-D5ECB9B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520777-354E-45B5-9305-37F3131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C6A849-7C69-4CDE-8370-0CC363B1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334659-EB01-4281-A785-5B5DD587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621298-CB72-452E-BB65-28643152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596B6-D3F7-41E8-8E68-4C50EE8E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58CF9-C173-48AB-BA1E-0E1DE3B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197BB-27A6-4409-83EC-F64F70A4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3C2F2-F0DE-4596-8BEA-B8987163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7DD80-DD95-44D4-A1BC-18673BE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85B7E-28F9-45E9-98E9-2EA98B7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C8862-1AB0-4696-83CC-FAF8DEC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9253D-3982-4937-9B85-235910C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14DE6-2309-4322-8B7D-1623E24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A6122-D759-4EFC-B3B4-A84DE96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998D4-76F3-43CF-9289-C3E03CA4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22EA2-008C-496C-B640-FB642F98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94BC3-7490-4AC7-B6F9-FDFA907E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7A829-7E29-4A09-A68F-13EFF638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5519F-8F39-42E3-87E7-781FF07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B1CEA-5531-4913-834A-1951971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1A2E8-0DA4-4D5D-8387-A52B6032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FD908-AA48-48B9-9037-D9AFE44D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EFC0B-F13A-4405-AB62-022F251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77A74-8F46-45F5-B682-6B6A69F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3B802-46EE-423E-BFA8-69DC7531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9E46D-0E5C-4573-B9DE-F182CA8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AB63C-8FC1-4829-B91C-FB036DE7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21DBB-7275-4306-A738-172C7C9E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62350-6601-4008-8191-670E40F1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B04C4-91A2-4DF0-B89D-988FC36A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759CD-40C2-480E-BDCA-ED0EB88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D329B-CAD6-4AFF-97F7-1296FCF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6E4AA-33F2-438A-B82A-18D23AB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2873B-6055-4E49-8B67-113A2015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F3008-85CB-4C27-8E0F-353073B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5B3-7EF9-40C3-BB40-9C3AFC5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377D3-BDA6-45E2-A221-6801FC3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F5273-29DE-4DEA-B0F8-51F85FA0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CB3E2-771A-449A-9F12-35180F4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56248-2917-45E2-A567-D4F80C2B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53070-583C-4B38-84B4-7528025C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4BFCE-C1D2-429B-BE58-A1B05FE7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ED29E-5960-4059-A6BB-1738B86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44A34-6497-41ED-A14F-195BAFFB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4176E-0FDC-435D-B6E1-06AACB1B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42EF94-EA26-4A93-A799-643F669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81C71-919D-468A-8848-F6E6B37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B2444-D42E-4FA9-A16F-28A513E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7BE55-5A5A-415C-A7C8-A14186D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28084-9E8C-4F0C-911E-89CC731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44121-85C2-40C4-8846-E2575D43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A5FBA-35A6-4315-8A17-86395F1A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FA4BD-64B5-48FD-AAA1-E1B73C49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5FE83-2558-4E88-809D-7408D158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1EE16-5B87-4D59-B01D-C93BFAF0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2FCEC-8CC3-4FEA-8CF5-B6C285C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F7691-BE61-4C80-94B6-D417AE6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A2986-F1F5-4FFD-B9D8-FFAB6093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ADD48-E9C1-4ABA-B270-08F465CA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EACE2-7B61-4402-9D02-53E5960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1BDD5-9CE9-4AB7-904F-08A179A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C2499-3543-4828-B973-31308F0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7D377-F1EF-4AC6-B91D-097C850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12A79-92D2-4F86-9640-80797E3B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BC656-0931-4F59-A788-2FB645C6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22A5A-D84F-4254-B62D-0B97F78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CD56CE-EA90-4CD0-B8D2-AA8F3D26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BFD3E-69BA-4924-A729-82430F9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4E6EE-B002-4F90-8582-EC6ABFE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41A0E-51A6-4F0B-8C54-916B1BC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698E3-0AF2-4FF5-B375-5AE0B9B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D69BC-9AE0-4119-8586-FCEBA19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83C0C-0AEE-4C0C-9CF9-C117F8C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C94EBC-F71D-449B-A8FC-ECBF8D4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0F10E-FCF7-4B76-95CF-08A711A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D5BAF-5115-4058-91D6-4C09E70F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D1BC7-E471-4602-9719-C889EDBF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361E5D-7752-4472-BE3F-1391FC87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05371-A6D5-4C91-823E-CC8C7FCB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02A3A-4FE1-4772-AEC6-20C4FE81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A4091-9A64-4E07-ADD2-C990E62A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68BB5-5FF7-42ED-96A2-F29FCEB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6051E-F2D4-464D-801C-F0D6EDD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A579C-8FC1-4F4C-997F-F13A242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D11557-77A9-45E5-A288-A6D83DF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BA7C1-0C1F-4E75-9CC8-77844DC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ED92B-784C-4237-B29D-8E830838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A2C08-A6AA-484A-B479-9BAEB02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51C3B-2D25-42C5-97D8-9AC8A68C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7965A-B8C9-4941-B248-E60E2A9B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ACFC9-C28A-4CB4-9494-7EC0A3D8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CDECF-5568-46E7-8EEA-CE2394D6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1E86A-1A70-44B0-9E2A-AD2AC55F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DBEF2-EC12-41E8-AC90-A0A1F3FF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03F-7E16-4D8A-9CFB-2260E78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A459E-27D7-4DF5-BFDF-1BD3051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32598-6873-4350-96C6-CC03129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6729F-85B0-4664-8EB2-6F88A586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4418B-F5F5-46E8-AC37-AD8CCB7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2F0C0-E4FE-4455-9965-9530FDF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0BEC4-7EE2-42AC-AF8B-08724182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17153-5F01-491C-A290-6D6E61FB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5CE13-9B4D-4CD9-91A5-583B4428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48C514-060A-4584-A21A-C09CDEF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2767-3F1A-4290-84A5-6721E1E5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E98-E849-408A-BB25-FE929B0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5A1B2-4231-488A-980D-FB22DDF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30737-C8E2-4ED4-900C-394FF877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462BA-31FF-47EB-A6E6-1ACEC91F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B7ACF-B633-4320-B56C-16DFE1E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541A0-5505-44C6-9047-30BCD71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22FDF-A6BA-4569-9C41-7C790B7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0176E-86E3-4EE3-B0E3-F4D8D2B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94C82-D7A2-495F-B64D-958CB3C4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77EE0-50B6-4D48-A389-6B1B66B2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E90-A44E-4203-AA93-64CC17B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455-4B2A-4176-9549-C79C453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86ACDB-C692-4DA8-9690-B245C09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F45AF-CA73-40A5-B8EE-CE062C3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0F28B-FA08-4F23-BF04-1686C2A2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9D2D0-73BB-4411-B6F0-C45A3B7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5643C7-7E4C-4F1B-AEF7-C9BB5FE7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716A0-C29A-4062-B23F-B2A85D6F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38E57-75F4-49FB-A866-57B0C32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15C7F-1841-4CE9-B91F-B13A0CC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B90CC5-CC33-4B9E-870D-403BD1D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A5E-244D-4D3E-8AE1-B3E52EA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74C3E-D04A-43DF-A70D-A240723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DE2F0-A154-48ED-8928-6831CE27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853AB-26FF-4B17-87B0-8409DFD1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112FE-B510-453A-8D5C-239CA0B5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BF5BE-8CBE-43D5-B6E5-7707142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4A520-EC7C-4672-9C08-A229F978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8C6B3C-5B7B-47F5-AB49-52B5F2C5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B2ABCE-AFF3-476C-96B1-A359412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E2728-8A68-4010-90D3-9AADA17C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EA54E-4322-4706-9B99-0EE1DA1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A04-57BE-4391-A1D8-2501012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A8D54-D6CD-4DE8-B76E-9DA15F4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64EDF-F302-4CD4-8861-14F43DD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57447-0E09-44BE-BEB7-BC1CB6B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AF54FA-C339-4415-94C2-C375AB2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EFBC03-2A17-4F04-85EF-E9630B0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585E6-66F2-4270-87F2-310FAF2E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7B72D-8039-40BC-BF47-59E0D5F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BD1B0C-102A-453D-BA8E-2E717B58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AB60C8-CE54-40AE-9F77-2B7B061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B7228-615C-4CFA-B6B3-F49C8BA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E69-95AB-4A29-BD21-02E5453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361E3-FF0A-498E-BCCA-28B150C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11E250-5431-4EF3-9F2E-7FD84B3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A14E8-8E02-4BA4-893C-137CDB8F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3B512A-1ABA-44B3-BF39-B8FD0A78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C19E18-12AB-4FCB-A724-0064B6F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48183D-C98E-4BB3-AE03-A73E19AD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F8092-26F4-4917-921F-5F0B184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1CC5A-552E-49E7-B57A-BE7B0CD5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1086F-4411-4E08-9469-B171471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4931E-1A52-4377-B211-CFFB8CBE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F2C6-8349-4820-AEF3-D30D25D59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3F19-50C2-4111-861F-0A6BA02AC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D95F-DB16-409C-9F80-B2583ED37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0DF-FBCC-43F9-92CC-2C12951B1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CDD4-F4A2-48CA-B565-60B4D69DE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E0F-053B-4CBA-8524-F2510B18D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C9D-3637-4BB7-B79C-95D5866BC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CF68-FAE3-42FC-87C0-A99853D11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B7B-753A-4966-BF1D-080D98F8C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E70-9C81-4059-B49F-240562F81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8d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29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7B93-27BF-46CD-A4FE-470A88ED2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D10-0863-4DE4-8F42-31FED171B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2BE3-B923-4B75-A48A-B7DD0A560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E529-6765-4839-865A-12241EF3F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ECC-DF99-4696-B0F3-E7BE06D87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162E-940D-4B52-AFC1-845E37570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DFD-A6D0-49D5-AA69-9733093BC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4B1-6B4F-4C20-89AD-33E0970ED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hyperlink" Target="http://en.wikipedia.org/wiki/Nanometre" TargetMode="External"/><Relationship Id="rId3" Type="http://schemas.openxmlformats.org/officeDocument/2006/relationships/hyperlink" Target="http://en.wikipedia.org/wiki/Mitosis" TargetMode="External"/><Relationship Id="rId4" Type="http://schemas.openxmlformats.org/officeDocument/2006/relationships/hyperlink" Target="http://en.wikipedia.org/wiki/Cytokinesis" TargetMode="External"/><Relationship Id="rId5" Type="http://schemas.openxmlformats.org/officeDocument/2006/relationships/hyperlink" Target="http://en.wikipedia.org/wiki/Transport_vesicle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b606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By: Christina Hosp and Ty DuPre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found in animal cells and play a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replicate in interphase stage of mitosis and they help to organize the assembly of microtubules during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called "basal bodies" form cilia and flagella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4" name="Picture 5" descr="centriolesfigure2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re are three fused microtubules in each group. The two centrioles are arranged such that one is perpendicular to the other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Basically these are the same thing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made up of nine (9) sets of triplet microtubules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commonly found in the centrosom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important note is that plant cells commonly do not have centrioles and they are not required for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triplet contains one complete microtubule fused to two incomplete microtubules. The centriole is a short cylinder-like structur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centriole is important in the formation of cilia or flagella, then it is called a basal body are typically thought in relation to cilium or flagellum, where as, centrioles are associated with the cytoskelet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surrounded by a densely staining material pericentriolar material, this is where most of the microtubules arise from, also in cells without centrioles, the microtubules are organized from this densely stained materia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s mentioned earlier are often known for their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seem to determine the position of the pericentriolar material, which in turn affects the polarity of the cell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e Centrosome and the Centriole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NIMAL CELL CENTROSOME: The centrosome, also called the "microtubule organizing center", is an area in the cell where microtubles are produced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Within an animal cell centrosome there is a pair of small organelles, the centrioles, each made up of a ring of nine groups of microtubules. There are three fused microtubules in each group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ioles are arranged such that one is perpendicular to the othe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uring animal cell division, the centrosome divides and the centrioles replicate (make new copies). The result is two centrosomes, each with its own pair of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osomes move to opposite ends of the nucleus, and from each centrosome, microtubules grow into a "spindle" which is responsible for separating replicated chromosomes into the two daughter cell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LANT CELL CENTROSOME: Plant cells have centrosomes that function much like animal cell centrosomes. However, unlike centrosomes in animal cells, they do not have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cylindrical structures that are composed of groupings of microtubules arranged in a 9 + 3 patter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pattern is so named because a ring of nine microtubule "triplets" are arranged at right angles to one another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457200" y="304920"/>
          <a:ext cx="825516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5516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Microtubule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re one of the components of the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cytoskeleton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They have a diameter of 25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nm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nd length varying from 200 nanometers to 25 micrometers. Microtubules serve as structural components within cells and are involved in many cellular processes including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mito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cytokine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vesicular transport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5:06:33Z</dcterms:created>
  <dc:creator>Gupta</dc:creator>
  <dc:description/>
  <dc:language>en-US</dc:language>
  <cp:lastModifiedBy>Christina Hosp</cp:lastModifiedBy>
  <dcterms:modified xsi:type="dcterms:W3CDTF">2013-11-13T20:37:35Z</dcterms:modified>
  <cp:revision>7</cp:revision>
  <dc:subject/>
  <dc:title>centrioles</dc:title>
</cp:coreProperties>
</file>