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93A-159F-4268-B936-DF38BD3F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811-BA1C-40C4-BAC7-38D1E56C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76F85-6E0A-44BF-AC82-9A3795E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D9CF0-CC5F-4764-B44B-7D4D3E21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002AC-6871-4195-AC15-D9B7025A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248FF-3251-4613-A796-857BADEB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6C6D1-D67F-4EC7-AF86-C537D87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0E348-D63E-436D-8A90-B8CD015A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02206-7BE9-479B-B033-CC11C76C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8915F-A73E-4B29-ACCB-9A4E611F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43E10-C4DD-4FCE-9954-5CD28D0A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AFC35-3AEF-4FA1-855B-F6183337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BCC-D8F0-4752-B9DC-50F5E8F4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AFB9D-2188-40EC-9E05-94052618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C644F-CC06-468F-A95C-B419B561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803AB-B536-4D8C-8E7D-99E78C41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69305-6BEB-42F4-B210-F35138DC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472F8-E636-4504-B34E-F1647683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66587-D15F-48CB-99E6-0B1BDC6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694C3-FC08-45AA-A59F-B91492DB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3EA01-2489-4B40-AB01-0BE9B4D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2A6A9-B0A8-4CF5-B70B-590689C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C9B2B-906E-42A5-9ED9-718E4441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C75-FCB2-4061-B123-08A49287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06613-DCB7-48C3-A57F-9B83521C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D3E2C5-8BE9-450F-B44F-321B7C3A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A0EF4F-6ED2-4A88-A931-59CBFCC3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2D4544-C861-4B28-9AE0-94979A92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3ED054-2AA6-4D26-AA37-206071A3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606477-81E5-4959-89FA-FF41FA57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42FE69-8945-453D-A9E4-4F98D8B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5F1969-32EC-4A16-AD91-D9D58823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168D81-39C0-4C89-A402-9519126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BA5059-F479-4565-94D7-6A01821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A4BFE6-1C46-4E9D-AECD-35AB066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CE0CCA-40A3-425A-8351-363D6EBF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2FE2F0-20C3-4011-8F44-81B750AE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D3623-C417-4A5F-8E6E-774CB329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3841C-D154-45FA-A6BE-E142B814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AAE09-F9D2-4BF1-9F05-D7287AF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11E5B-203E-47B2-BD7C-2A2FCA1A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D3BFB-5063-47DC-95DA-A14F69DB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FCBC8-E194-48BE-ABF9-F80F648E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06858-EAF8-44C4-B4B1-66BCC88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03930-885D-4717-B170-968F9B8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D949F-4994-4DCF-87AA-6836601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7C580-AE8B-4C0A-B1E6-C46EA5CA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2576B-A1B1-47E9-A58A-2B27E268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70351-EB4C-472E-8B7F-B7C88E1F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5D74DF-3B84-4770-A163-4137B57B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4FFE25-8DD2-4323-812B-27E3548B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E2C898-F938-4DAC-9C28-396EDE7E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F991E4-8718-4D49-9B51-66FD6382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C8CB5E-9E95-4C58-8AD4-06026357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BC6718-12B9-4517-AFDE-24DED58A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0570E1-F64A-40FF-A74B-3112B74E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411AEB-503F-452A-B50E-622627A9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F8730E-9218-4F9B-82D5-2CBE7D9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937DA1-6377-4687-A522-9AEDD280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70286B-C36A-4915-AE9F-7D54BEB6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4BA8F0-99BF-4EEE-AD6B-9FF88937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32981-BD2F-43B8-B2F3-D9E04E2D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60220-5DD9-4285-B8F0-D70BF793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B6446-EDAF-4BA4-884A-85EC3E39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8E0C2-9A5E-4FFF-A997-A1372F75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16379-FCA5-4C07-A19E-A47757B9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52DD9-AA9D-46F5-B9B4-1CCD4D84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7FACF-F43C-49D8-84EE-3F077B44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9BD77-1346-4AF2-8BDD-6DF6EFB0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E1B54-A5B3-4C9F-AB05-7B024A5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C4B95-4013-40A7-8669-7E4B25DD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15FA1-C86B-4F19-A881-89354D6E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04D89-CC76-481F-807C-8FFA52D3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C84FB-992C-4FD1-84CE-12E6480F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C72AC-D105-4EA9-9412-152552FF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E253F-951F-4832-BC83-D979CB1A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05ADA-13C3-415D-9EF7-7FA15E51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F9A33-7D31-4DD1-B0A9-13427B94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96B8C-B763-44E5-996E-3DE04E6A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14C9C-E891-4FDF-8F63-473EA56D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C5E7E-29E7-4318-BE92-B0844B6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EF53C-DAA4-4A09-9284-D59DD886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8936C-079C-4037-B384-0FC9A44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029EE-3DA1-4981-BDE2-9B98FDB3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5B891-DF22-4D04-90DB-9E02EE88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31D37-7C32-4FAC-82CC-94A0AE2E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2C78A-C823-4390-B97A-D92CF1BC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88D80-7DED-4BD9-8643-B109DE0F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B842A-BBC7-438D-9A38-BFEDC51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42268-01B4-479F-9BF4-7ACC853B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ECABA-567B-4674-AC03-90CCA62C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90D09-7260-40AF-80D2-015D024E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1CF-75D5-4816-AD78-27CCEC9D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D949E-B875-45D8-A9D0-3EB2428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6839C-0EFD-4CB4-9F56-871A697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10F1C-C386-4AD9-85E1-408F5C8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964B0-E79D-4CD4-B540-5E9A656F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C9390-F22F-40E8-A145-3221E7C4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D192D-D39B-4E41-B9D9-0334221D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28FCB-7464-42F4-8576-51D42EE0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1248C-8BDF-4237-B0D9-1A8D0E6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15F2A-623A-4F6D-8791-ADBFE809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59013-A96D-422D-9016-C1555AB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5F702-C31B-4009-9E9B-D1FE3459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9961B-B00B-4D24-B7A9-2705F408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B58FC-D1B6-4CCA-8BAA-7172A28C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F67E2-75DD-4334-8226-20E85FA4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DEB4B-3A5E-4D81-8EB2-76A66956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9BC03-7A50-4132-9916-511A8611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52A4A-D93B-4C3F-80B1-7D514CA4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7B127-6823-41D3-BCD3-B3E85CC5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65FEF-4A53-4BF3-B943-0E2BD60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BCA1B-85EC-4E6F-8A0E-59F7D2FB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0B4B2-B470-4ACE-99EF-84B39C1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415E5-24BC-4423-ACD5-FCC7434E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EEA70-0038-4AA4-8D89-A0AC2F4B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D70F9-8615-4095-A4B3-0FE7B61B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5DC2F-20DB-4A7D-977F-614AA47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3B9EB-C199-423B-A8BA-848962EC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F768A-320F-410B-AED5-151C37CD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8CD15-E63D-402F-ADF5-0D2AC031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5AF07-9DD6-41F2-AFED-8E17B3DD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44269-5F67-481C-B529-C2543420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76037B-9E97-461D-9CC6-EF939E83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F4AEC2-1D78-4EE2-90E0-9C5C987E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4F7EC-702F-4AC2-94A1-CFFFA52F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80F92-FB2C-4758-9D67-64BF094D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A19B3-1766-4DD8-8844-4C185170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676FB-894F-4AE8-BCAE-2B223CD1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3FE23-563E-4740-A0CE-233AFC5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2B2A2F-2F65-485A-B773-45CF52CB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1D94A-B54A-42C1-BAB9-28C72A58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EADD2-ADF9-4534-92E1-BB7BDB2A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D9938-52E3-4E37-AA69-F6964615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49094-5A42-462C-B37C-3E0620E3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975F7-7691-4D50-B5EA-E67A24A9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F80A97-D2D0-4DC6-A5DD-E3F483E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F2616-CC9F-4F7B-A61C-3EF626A3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536833-1BB4-4AD0-85B1-6A80F870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7781A1-7C6E-47B1-9B35-140F781E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E50D1-C044-4D26-B3E5-CBFAE9F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F6240-8C1C-4377-AE2B-17650F7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61A00-814D-44BC-9BE0-819D4C8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7D125-82DA-4F5A-8544-C285F229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52547-C5BD-465F-9FA8-0EFC3A50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7D6DE-6ED0-414C-A964-2D5A713A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3AA98-32D2-47A8-B406-62B73F23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998F9-D625-4D26-B1B9-086B027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921AE-E76E-4E6F-8339-208B8A2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35653-6063-4E07-9F00-36B46F92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3B73B-8C05-4BDF-82A8-6E2618EF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B84-0CEE-4B5A-90C1-F3C9DD49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08955-0D7F-46FD-B8D9-1417C5EB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8FD31-114E-46B3-BB13-C3C8019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CD1DE-AD96-4211-BADB-CB5970A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A741F-4424-450B-A67A-C43C23E9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E8251-F9EF-4CC4-A65C-8D664136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F3CDA-B3F7-4E42-8020-78C64B87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A8E60-0AC3-4E1B-9C41-9900A767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D99E5-8496-4C61-BB5D-F5144008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2C10E-7261-4203-B1F9-10C0F4E3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1C00C-84C8-42CD-9610-E56BD6B6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EFF-19C2-4765-A77B-122E6CAC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8AAE2-E4A8-4AFF-867C-E4E029B6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8D514-FE7B-46E9-95A2-6ED2A1EB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4A1EF-C178-4AAF-A7CA-F1520757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E9D3E-0F7E-470A-897B-A542762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3EEA1-DE0C-46E4-B1B3-2F2C2BCF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FEAE0-F492-46EC-B7C1-8BCAC312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02C7D-0A18-4C59-B565-71FDFDE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F30A8-BF11-45A1-8E94-7EAA5BBB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4B78E-1635-46F6-A902-9C2A34F0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B2C-D30E-4B72-B702-4CC879EB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7F8-4518-41B0-B556-550FF752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345521-BED1-4F26-91AA-7A2A086A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2B0585-FF09-494F-BBA7-C96E6D5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E68BF-F279-435B-ABE5-F079AB6C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E02CE0-8775-4A2F-BD96-506D0EC7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EA4DAF-68D8-4505-993D-4B022D94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DECEB-3262-48E3-B00C-31C627DF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964AE-9F4E-48CA-948A-9643A79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92948-29B1-499A-B223-F42A7913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4E95D-806E-4EB8-BF01-57DE5AE7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A9B-28BF-4A1C-B121-EDC915AD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D714A0-9FA2-4F55-98B5-B1D9BD0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592222-AE56-46CC-A0FA-D00775F4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50A08D-5536-491A-BD67-9D0E3A6F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14C334-87F5-4B09-9B15-4D05C33E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517DEE-C146-427D-996E-AE45FBA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978355-843F-4812-8DEE-DE32F99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6A7BC3-878A-426D-AE4E-4BB037A5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BD1721-CA38-4BB5-B52B-B16448E3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53B8FC-7447-491A-8746-15F13E76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8537D6-8B68-4EFB-A2E7-4D03F44C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43A-5824-4B6C-BA5F-8D329624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0886CE-1772-4881-A8A7-1F7CAB4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2ABE1E-5C6C-4348-A7B8-48C3AEFD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A173A1-034A-474B-B867-14D38F14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8C415B-888B-43BE-AC6C-657B40B7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8BAA04-0EF9-4560-944D-A1AAC092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572B76-8CBA-41BA-8FFE-8C4E8125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43587D-9C94-4E4C-B7C9-57126738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0490C9-C578-4720-B8D6-68ED92B3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3AF44A-032A-49E4-91BC-CFA954BF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518508-7CDD-4227-B636-55EC4BC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95D-521F-4159-9389-E51EEA4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6AB76-9F2C-4F1C-A6AE-F3500278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732CFF-B2D9-4A0B-9B35-68B9DF71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0D2D57-6F8F-4A7A-934B-4B61518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192F04-7C13-4A61-99B7-53F8D7E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8CE989-F5A6-435E-BD1C-54529DA8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B44B50-DD1E-4538-88B8-32571FD7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C493FB-27A5-4F87-8539-501F599D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33E2F-36B2-48F8-B7BF-1A66E451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A0750-6CEB-4D06-B8B2-A36AB631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4359E-96CD-4B2C-BDB4-CAA764E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2A13-9E3B-46A5-BCD7-B5E35AF53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AD8-16D5-48F5-BDB0-B75B29858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492D-2AA9-4035-AE70-42B14A185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17AF-95D7-4679-AAAF-49ED373D9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8210-F21C-4FC9-A9A0-46CE2F8D6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5ED3-48A2-4A0E-B9B3-3D7C74650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EA1A-3348-4683-A3D4-65BCF2EC1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7F4A-E915-4567-ADAD-21B3FC85C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DEBB-8C66-4B46-9A0E-F50FB7E2F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D73-3E14-45D1-AAFF-E49779B3E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8d3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e29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8E2-F019-4D44-89BF-87DDCE27A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8771-C3B7-42C9-9737-5FF7C0170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7685-92E7-4B53-BC55-050143251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DEB-6C84-40B3-94B8-FDBCC5076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763B-3EF8-4E27-84A1-4386CE45D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F0D3-F83B-4119-B5BF-D5EB88E0D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39E9-636B-4058-8876-521B37614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35BA-0637-439D-87EF-F57408B78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ytoskeleton" TargetMode="External"/><Relationship Id="rId2" Type="http://schemas.openxmlformats.org/officeDocument/2006/relationships/hyperlink" Target="http://en.wikipedia.org/wiki/Nanometre" TargetMode="External"/><Relationship Id="rId3" Type="http://schemas.openxmlformats.org/officeDocument/2006/relationships/hyperlink" Target="http://en.wikipedia.org/wiki/Mitosis" TargetMode="External"/><Relationship Id="rId4" Type="http://schemas.openxmlformats.org/officeDocument/2006/relationships/hyperlink" Target="http://en.wikipedia.org/wiki/Cytokinesis" TargetMode="External"/><Relationship Id="rId5" Type="http://schemas.openxmlformats.org/officeDocument/2006/relationships/hyperlink" Target="http://en.wikipedia.org/wiki/Transport_vesicle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b606"/>
                </a:solidFill>
                <a:latin typeface="Arial"/>
              </a:rPr>
              <a:t>centrioles</a:t>
            </a:r>
            <a:endParaRPr b="0" lang="en-US" sz="28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By: Christina Hosp and Ty DuPree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found in animal cells and play a role in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replicate in interphase stage of mitosis and they help to organize the assembly of microtubules during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called "basal bodies" form cilia and flagella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4" name="Picture 5" descr="centriolesfigure2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re are three fused microtubules in each group. The two centrioles are arranged such that one is perpendicular to the other.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nd Basal Bodies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nd Basal Bodies Basically these are the same thing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centriole is made up of nine (9) sets of triplet microtubules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centriole is commonly found in the centrosome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important note is that plant cells commonly do not have centrioles and they are not required for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triplet contains one complete microtubule fused to two incomplete microtubules. The centriole is a short cylinder-like structure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centriole is important in the formation of cilia or flagella, then it is called a basal body are typically thought in relation to cilium or flagellum, where as, centrioles are associated with the cytoskelet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surrounded by a densely staining material pericentriolar material, this is where most of the microtubules arise from, also in cells without centrioles, the microtubules are organized from this densely stained material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s mentioned earlier are often known for their role in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seem to determine the position of the pericentriolar material, which in turn affects the polarity of the cell.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e Centrosome and the Centriole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NIMAL CELL CENTROSOME: The centrosome, also called the "microtubule organizing center", is an area in the cell where microtubles are produced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 Within an animal cell centrosome there is a pair of small organelles, the centrioles, each made up of a ring of nine groups of microtubules. There are three fused microtubules in each group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two centrioles are arranged such that one is perpendicular to the other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uring animal cell division, the centrosome divides and the centrioles replicate (make new copies). The result is two centrosomes, each with its own pair of centriol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two centrosomes move to opposite ends of the nucleus, and from each centrosome, microtubules grow into a "spindle" which is responsible for separating replicated chromosomes into the two daughter cell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PLANT CELL CENTROSOME: Plant cells have centrosomes that function much like animal cell centrosomes. However, unlike centrosomes in animal cells, they do not have centriol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cylindrical structures that are composed of groupings of microtubules arranged in a 9 + 3 patter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pattern is so named because a ring of nine microtubule "triplets" are arranged at right angles to one another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aphicFrame>
        <p:nvGraphicFramePr>
          <p:cNvPr id="926" name="Object 2"/>
          <p:cNvGraphicFramePr/>
          <p:nvPr/>
        </p:nvGraphicFramePr>
        <p:xfrm>
          <a:off x="457200" y="304920"/>
          <a:ext cx="8255160" cy="56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25516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Microtubule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are one of the components of the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cytoskeleton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 They have a diameter of 25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nm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and length varying from 200 nanometers to 25 micrometers. Microtubules serve as structural components within cells and are involved in many cellular processes including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mitosi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cytokinesi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5"/>
              </a:rPr>
              <a:t>vesicular transport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5:06:33Z</dcterms:created>
  <dc:creator>Gupta</dc:creator>
  <dc:description/>
  <dc:language>en-US</dc:language>
  <cp:lastModifiedBy>Christina Hosp</cp:lastModifiedBy>
  <dcterms:modified xsi:type="dcterms:W3CDTF">2013-11-13T20:37:35Z</dcterms:modified>
  <cp:revision>7</cp:revision>
  <dc:subject/>
  <dc:title>centrioles</dc:title>
</cp:coreProperties>
</file>