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7AC-C860-43DC-B80B-17AC6B72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2B2-4583-43DA-A49C-5B4F8F2F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F7314-EE05-4D6F-8D87-D04F0257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DEFDD-16E4-4364-89A6-80A619A2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371AA-8166-49F5-80B2-118D241E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7A4BA-BA32-4C8B-B2C5-B7360531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457CF-538F-4537-8061-2384EEA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F237D-250D-4A22-BBC6-899144D9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F8C91-EC82-4244-82D7-1ED2331D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CFDA1-59E2-4CE2-BD9B-336D9CD0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2F195-F7AD-4B62-A73A-74F4A4F2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510CA-C7CC-4C51-8D4A-0FCD5A16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259-5B02-4B5A-8319-D244E46E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8079F-446C-465C-B5C0-7039F49A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96A39-C6DE-4FB3-9FF8-033BFED2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993F2-6114-4695-B871-EA63113D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2C851-BB28-4466-9645-0D65E784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3E2AB-19F0-4051-9DA2-152ED09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02D12-7469-4FC8-B626-C3209A2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D07DC-0AE4-444A-B61D-4D80FCCE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11DFF-2456-49CF-A90F-F7510F5E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F5A74-BF75-43C9-9D6D-4B5075BD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66E35-670B-435E-AE7D-691D8EE6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1A9-554D-4B5F-BB0D-1AD24A60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AF5F5-E70B-46D4-BD80-06C094EA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CC7EF3-A507-4B59-AB3C-3FFE65EF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781514-68B0-4933-B07B-E6DC05EB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300BDA-3625-4224-B2FE-138B2C3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ED51FB-A21A-465D-87BB-27D9F86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6AD95F-29C8-4E35-BB97-C4FA1111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DAEB9E-454A-41AF-99B8-63D8BCD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C45129-3035-4ED7-831E-9EF4396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DC4569-339D-46A3-AFD5-22E43131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27D63D-DD55-4293-8E01-15439AA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12A8D1-03FA-419F-B8BD-D383E301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CA95A9-2C05-4293-9E5E-C149214A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054BFC-B4A7-49B5-B041-AE332A96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C38C7-CE15-425C-B41F-ABDA5D73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7D256-53A4-4F37-B284-7E48A196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3482D-A01C-46A7-95ED-AD36E82D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C8A37-F263-4E25-B472-C4F10F84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9DFB9-7FEB-4837-BDA8-932A94B6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16F3C-8520-4B0E-8E86-57881FC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8BDCF-E83D-467F-88F0-79D5807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ECF67-1E0C-4FDB-9E11-9D7823C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3A8DC-1815-4559-A805-726FA81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C6C63-7E94-49AF-9CA2-DDF09C37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9059F-9E3C-4214-AB7E-F9103963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DC654-4F64-4841-AA34-D478DFFD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86E219-9D8F-4BA2-A2C3-76B2338E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DF3ECD-4600-4843-9232-4B3969BA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3AE638-2EB0-495F-8E61-A903F82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36C18D-44B9-4387-B865-DA572455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56339B-901B-4F41-B77B-C84959A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1EA9D3-D48E-472D-97C7-F84173A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A247EC-A0F1-43C1-8F43-3FEB51A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BA61D6-4B44-42D7-B23D-1E14A6D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5E9709-5EAB-4920-8532-74A57E4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8C1319-8D95-45EB-A1BC-E72D651C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BAD924-BFD4-438C-9636-C378D9DD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DA7060-CB4D-4A57-ABB4-747383A7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2BE56-B439-4BD1-A7BB-6FE8FEDD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2AD91-ECEC-448C-87CC-3E99317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FD256-A376-40CE-A232-EA5D9AD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0C064C-9468-47F2-94F9-E41009C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DA60D-8A22-46CD-AD76-78959223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0AAF0-4602-4A12-98DC-5C77E01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4E091-0B9C-41F2-8B92-44BDA2B7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C74EF-90F9-4320-8513-55B19983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C62D1-D31E-43E2-823E-98D00E8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4E45E-9A17-42E6-9D1A-54AD16CB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B6555-B345-4F42-8044-0D61B29C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23077-ACA2-424D-B9BA-395AFE2F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8C021-737A-4B4F-A6DA-7B36C896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5E2A6-62CE-45C7-8085-111F4927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F11A0-334E-40FB-A877-60A5BE4A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00B32-86E1-4F9E-A1ED-0B52532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D4E9B-A441-4391-85F9-1581C631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0C003-187F-4B9C-9D93-FF2312B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EE2A6-4CAD-4E75-821A-B45F412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E20CA-BF62-45FF-B9FE-56F7612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A9EBA-F772-48E0-9584-177CBB9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D6AE7-B459-4D7A-9C4A-A57A7904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8F7E2-AFB9-4548-8F6E-67A08861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C0FBC-CC95-426E-85A0-FA7D6612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E5292-CCDE-4D1D-A2E0-9A03F61B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FE400-46FC-4ED3-A468-FF62E508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BD12B-0CE9-4FDA-BB63-6ACBEC9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40D78-10D1-4424-8ACE-E127E9E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4E16F-4452-4CE6-A7AD-A83FA607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DB970-1CC9-4AC1-88EB-C9A47CB6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3EA53-3B68-437F-B4DC-7A6CC27B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167-6569-41F8-88EA-985D03BC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52AA2-2B05-49F9-B8E7-80BB5CD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DA848-0A42-427C-8866-44576EC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71172-394A-4E0A-8C01-6519EF5D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06BE3-8457-4A01-9201-77E5F23F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59F0A-FA78-492D-954F-F4086E9E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552AE-D8FD-4D52-9435-5AFEDFD6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214B9-C9AE-44FB-A976-91FA602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85AD3-1BD6-4A4C-81C1-EA326D7E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C1AC6-62BC-4E83-BAE9-82FFBFE2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C2CFB-9E2B-4BB2-A53A-3538F17E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C6258-984B-421A-9D2B-18B17EBA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1C5DE-6178-4753-94E6-98810A5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30204-3DBD-4511-A854-2AF59FA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2F1C6-E5DD-46D5-977E-8EBC54BC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9357B-4635-4660-8627-A55AA53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D1C83-171F-488B-9775-5B62DF1F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C54E9-2246-484B-8555-5B861EDA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46D50-02C4-4801-8B52-14B08BAA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B2E9B-F120-4DB1-8D1E-C80694A7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EAC57-23C6-4945-9947-3B6BB76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4C2CB-B58B-48FE-8239-5B7F320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F1B3B-779A-49D9-BC53-8BA552D7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8F28E-E244-454E-8F9F-59F55E6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0D0FC-045A-4877-A6CC-24AA098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ED16A-CC75-45BA-8746-B43BE91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55062-846F-4229-B081-76B984E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BEEF8-DC97-401A-9FD3-179BFAD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27A29-6F12-472A-AA2B-78208652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7C317-0A1C-411F-9767-6335180C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78CABD-9738-4F23-8655-968A601C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0C8F8-F4DD-4F29-B99C-79F08BE7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BBC5D-2C45-48BD-B64A-3376542B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5DF01-3A59-43C9-9E62-AC8297F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FF9CC-31A8-4F9D-9561-40C5258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FCA9C-8D09-4274-B221-C5F716E8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4CF54-62E3-4F21-9823-DE566E0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743DC-1D77-4FFA-BF33-6DD83AF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7648D-D8FA-46BE-B2C8-D9646E2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7D388-DE77-4E88-8E33-93FCCC7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CCF5E-DA34-4F62-9D42-C721ED58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AB2D5-C900-49B4-AD88-3799A418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76EE20-E595-4673-B27B-C74BCB6D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99953-AA00-4333-9E5A-E356CECB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1BC77-08DF-4F99-A404-E7E87D3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57B39-6D63-44CF-82B4-ED3D7C74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13DF5-D07F-414B-B80C-62AC472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FBAAC-6B89-49F7-88C6-4FD11DB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3B2CE-9002-409D-9FEF-592FDC41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499D2-3D9A-4549-8B8A-66B090F0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F1A11-1FF0-47C3-B0BF-18B43C9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983FE-5844-48C9-8923-D2153259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59DD0-CBFF-4EBF-BFB4-A44E5A17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DAFA6-1C87-4971-B180-6CE03995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1D353-3056-4D2F-A479-26F1FF4D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EDAE4-4FF1-4F87-8977-E97CCCB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F3456-DD0F-4B59-8A42-8B5E6A2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31792-4496-45DC-9B9A-0AF0B3C7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B9F9D-F81D-4675-A23F-FF8F62D8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2E3-C5F6-4C52-85A4-9904B8CF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65E82-205D-4734-ADC3-8CAA8422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4C010-529F-4CED-B5F5-6A7DC9C4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297C2-9E98-46FB-BFB9-96663A2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119EA-47B5-4A5E-B9F8-064DDB9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90542-E32A-43F0-9220-D45174A2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2FC76-1625-4F00-B805-174E9B45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E0990-107E-4A60-8074-50B046E5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FD404-172C-4BC9-9B1B-B660AA1E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2ADC1-06C0-43D3-9E72-48A7C37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BF91E-B3D6-4A85-B6E1-590CA1C7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99C-0A6B-432A-85A7-4E2F87E9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6E61B-7587-4E17-9195-1972916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BDD88-2A2E-40D5-B3EE-3AC49F5E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ADBC4-04BD-4C36-B159-92352015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F096C-D04D-462E-A4FC-1518319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D5AA7-DB28-4AF4-AC84-7B8DDA3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A2455-DF4F-42CF-BB87-C975D58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17572-11C8-4AD0-8A62-5070734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88F4C-7CBB-48CC-A147-F1D7EB34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24C2E-EF15-4A75-B61A-5089D35B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D5F-595F-434A-8D3D-B1A08FC6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3EE-47A4-42BA-A9D0-283788B1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1E0FB-88AA-4926-9526-784A66A5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EA524-7E09-42F7-A8BD-880687C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BB64B-3831-48E7-91F6-022B99DA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B9CE6A-9BF0-414D-8077-899F3B70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2F24C-831E-41F2-AD1B-7F69196C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C6E62-FCF2-4D0A-B4CB-0739F42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31F34-6BE1-47D1-AC35-51168295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79020-3C56-4384-8CF9-4EEA0B1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475558-A737-47CA-AF1D-A6CC2AAE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1D9-9E24-4516-8C63-4E840A7A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85C608-B63E-4C56-8AB7-765C7A65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8472B-FE16-4063-9992-7522701C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736FC5-D466-49D6-A047-494F378A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B14BA5-65DB-48C6-A4C3-4D38F38D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1B12A-4EEF-4EEE-A589-3F988CE4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CC1B66-44EC-4014-80F4-6F35568D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188AE-2C82-47A4-B300-E8E4589E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CB9E85-DF3A-489D-A2A5-8C637D33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BC11F2-C020-4E95-A957-CA9E92E9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985A49-36A2-42B9-BA48-92FB0E15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D2A-767C-40FB-91C8-3BA22D4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FE14BD-87E1-4442-AE21-3E877E9D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5C019-065C-49B5-B0E1-F350DEA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20B3A6-283F-49E8-82FB-259C9AF5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F31790-DB3C-473D-8265-51A24835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7952EB-A6C4-4437-AB3E-8D9D05B2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B04F82-617F-4B7D-9F88-F1A2A96A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C5C7E-A0E1-4A70-AD70-8890BA06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DC82F-422D-4449-A233-1A15D97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6FBC9B-364F-41E0-9D1C-3D08FAB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78DDB-23DA-44EF-AE3E-3515627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4F9-4B41-43FD-AF53-3F71768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B57A8B-184A-4148-A56F-ECDDB2D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714D20-195B-40BA-A66C-5111E3D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74E18-CF5D-447F-BF11-EEF126D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B6B5BF-05D7-410D-8FC6-87DE48ED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4D0A15-6A0D-446D-BDC0-46D7BE9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71BBF-FC93-43E4-9216-B85E71D1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44492-F417-46A4-8ECD-149DC6AE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A30CE-BDB9-4C6A-B935-62BD55FF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960DA-D21A-47A4-893C-1EC332B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D91C9-3634-4A21-95F4-BB01C71F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6FC-DC49-496B-BB69-4A12E0D44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947F-8A0C-486C-B84B-912150B32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0113-B5DF-484C-A8E8-99F90FCBD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56E-FA46-4664-9CED-8DE6D156A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EA9-19CF-4A67-8B8D-31559519E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34B5-0212-4433-A6BE-E1C838EF8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168D-07D6-4028-B297-FCBACDE28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B0AF-D55C-4CA2-8C52-64AF6CE95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CAEE-FE83-4680-85A3-3AD4B706C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f944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1D9B-605B-4A63-A818-9E03A7A5B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8d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e29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A308-E832-4257-8460-5345A6CF4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27AC-81A0-4AE9-9DC3-7DA93B91F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9D7-5595-45ED-91EC-B6FE28A53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F071-5A97-42B8-9248-E3F7D6DD2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35a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8E6-BF3C-40A9-AFFC-C2D3BF136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239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FE67-7A85-4141-A4B3-F77CD8D03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5317-F6A7-454F-BFCA-8EC9A1D36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f944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80b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b60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c1f9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A42-FD75-453D-B884-A0A262328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toskeleton" TargetMode="External"/><Relationship Id="rId2" Type="http://schemas.openxmlformats.org/officeDocument/2006/relationships/hyperlink" Target="http://en.wikipedia.org/wiki/Nanometre" TargetMode="External"/><Relationship Id="rId3" Type="http://schemas.openxmlformats.org/officeDocument/2006/relationships/hyperlink" Target="http://en.wikipedia.org/wiki/Mitosis" TargetMode="External"/><Relationship Id="rId4" Type="http://schemas.openxmlformats.org/officeDocument/2006/relationships/hyperlink" Target="http://en.wikipedia.org/wiki/Cytokinesis" TargetMode="External"/><Relationship Id="rId5" Type="http://schemas.openxmlformats.org/officeDocument/2006/relationships/hyperlink" Target="http://en.wikipedia.org/wiki/Transport_vesicle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b606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80b60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By: Christina Hosp and Ty DuPree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found in animal cells and play a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replicate in interphase stage of mitosis and they help to organize the assembly of microtubules during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called "basal bodies" form cilia and flagella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34" name="Picture 5" descr="centriolesfigure2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re are three fused microtubules in each group. The two centrioles are arranged such that one is perpendicular to the other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nd Basal Bodies Basically these are the same thing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made up of nine (9) sets of triplet microtubules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centriole is commonly found in the centrosom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important note is that plant cells commonly do not have centrioles and they are not required for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 triplet contains one complete microtubule fused to two incomplete microtubules. The centriole is a short cylinder-like structure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centriole is important in the formation of cilia or flagella, then it is called a basal body are typically thought in relation to cilium or flagellum, where as, centrioles are associated with the cytoskelet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surrounded by a densely staining material pericentriolar material, this is where most of the microtubules arise from, also in cells without centrioles, the microtubules are organized from this densely stained material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s mentioned earlier are often known for their role in cell divisio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seem to determine the position of the pericentriolar material, which in turn affects the polarity of the cell.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The Centrosome and the Centriole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ANIMAL CELL CENTROSOME: The centrosome, also called the "microtubule organizing center", is an area in the cell where microtubles are produced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Within an animal cell centrosome there is a pair of small organelles, the centrioles, each made up of a ring of nine groups of microtubules. There are three fused microtubules in each group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ioles are arranged such that one is perpendicular to the othe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During animal cell division, the centrosome divides and the centrioles replicate (make new copies). The result is two centrosomes, each with its own pair of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two centrosomes move to opposite ends of the nucleus, and from each centrosome, microtubules grow into a "spindle" which is responsible for separating replicated chromosomes into the two daughter cell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PLANT CELL CENTROSOME: Plant cells have centrosomes that function much like animal cell centrosomes. However, unlike centrosomes in animal cells, they do not have centrioles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entrioles are cylindrical structures that are composed of groupings of microtubules arranged in a 9 + 3 patter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e pattern is so named because a ring of nine microtubule "triplets" are arranged at right angles to one another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aphicFrame>
        <p:nvGraphicFramePr>
          <p:cNvPr id="926" name="Object 2"/>
          <p:cNvGraphicFramePr/>
          <p:nvPr/>
        </p:nvGraphicFramePr>
        <p:xfrm>
          <a:off x="457200" y="304920"/>
          <a:ext cx="8255160" cy="56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25516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b606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</a:rPr>
              <a:t>Microtubule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re one of the components of the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cytoskeleton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 They have a diameter of 25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nm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and length varying from 200 nanometers to 25 micrometers. Microtubules serve as structural components within cells and are involved in many cellular processes including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mito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cytokinesis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vesicular transport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5:06:33Z</dcterms:created>
  <dc:creator>Gupta</dc:creator>
  <dc:description/>
  <dc:language>en-US</dc:language>
  <cp:lastModifiedBy>Christina Hosp</cp:lastModifiedBy>
  <dcterms:modified xsi:type="dcterms:W3CDTF">2013-11-13T20:37:35Z</dcterms:modified>
  <cp:revision>7</cp:revision>
  <dc:subject/>
  <dc:title>centrioles</dc:title>
</cp:coreProperties>
</file>