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0FAA-B7A4-41FF-B768-AB3C2CC3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2D5F-362B-4DC1-A425-E4A24254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0B492A-965D-4E57-99D5-86CBA32C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7EAF1-9024-498E-8C13-10630EFD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D3D690-4241-46CC-9DF9-940DAFCB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1DFA44-7744-44E8-BC74-14FF0868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630B6-94B8-4AA4-ADD4-A74770F9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8F429-3109-4D3C-85FD-90C1826F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9CB26D-5B58-4495-83AE-92A8F9CA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DCCFFD-6B41-400A-BCB6-3558DF51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FD6FBB-F68A-481A-B15C-E064F204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F5ED51-05AF-4D87-A266-25F10851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A223-95AB-4117-9841-45274697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59854E-7133-4936-B345-4388F156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DC98EC-34F0-4972-952D-653D2F64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2CCD0F-7A72-4F78-802C-37DA29F5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8E1588-25F8-452E-ADFD-1CB42F7C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0311B-32CB-40E0-84B6-C27EB224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C725B2-7FA2-4DBD-9A17-5CC1B421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24566A-3DEA-4B3A-A177-B368B2A7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6D5668-E896-4437-B797-BBF62533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D53C12-5A55-4E7D-9E74-36F23FDE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2F4CA-C993-4FCD-AA27-03DF02CA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A61-E86D-4089-9604-8C2EBDCE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49DE5-C671-4267-8E97-B50DA16E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B5FB6A-16F0-4089-884F-8316769C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619A7D-F862-4B80-BB8C-26AAA0C1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6A9508-E01C-44F8-9AB8-6E93BC60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88BCF8-F964-42D1-8595-5ED53F03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CAC5B1-B957-4A27-BB97-2B5F1F14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9092DF-DBFD-4D5F-BFE8-CDFFADE3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7CC6D1-0988-4B07-B19C-553D58F5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8F1A61-8ECF-4FF1-BDB3-9C4EBFE2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48BEAF-1A88-447A-89D9-015D0F95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855510-2B2F-4E4D-9B78-E369AB31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10DFFD-80E5-4923-9340-8C757DA2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248489-8144-411C-8231-4BBE1913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8D65D2-6529-418F-9892-AE5E34EA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F75170-1462-4EC1-9ACA-86854EB6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758C6E-4F14-4032-A0C5-A5770059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E17C72-17C9-4A78-BB2B-F31537CF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B8F2D-4162-441F-80D6-2E6F7383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44DF5A-3F64-49B6-8D18-6F1F4E09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E0D8E9-111A-4EB5-921F-17E5A154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CBBD2E-2687-473A-8236-925B37E8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39ADB-8501-4813-B3ED-BAE30FCF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0CC6E-871A-4BC9-96D3-80FED312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22AF53-9400-436F-A657-BF0AFF9D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A60E84-9DA7-40EC-8524-153C7F17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56F004-F86B-434F-A296-A2C13986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8195ED9-3C1D-49A8-AFC9-36DB9D63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6AC161-D907-4B5E-970F-72640D46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AE0268-2C15-4899-83E9-B5252E04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926BE8-BA03-49CD-A8B6-F51B5889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4BE35E-93FA-40FE-847B-9D509C21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1DD2C8F-0509-45FE-BBA8-002A786A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EB106B-39D5-4A08-A996-76D9A2DC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65E825-DBC8-4167-A799-B65B5B77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365F3E-DF67-4250-8375-98EDEB97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F204F6E-8C34-4E0E-8F47-4C770F17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73E6D8-344C-47E7-821B-42D1804C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70B818-52E4-4FFD-8E3D-1B06684D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5C1D92-6351-49C0-BD4E-AFAD13F9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7D611F-6218-4ADD-B2F3-EFF3F844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0C1A56-0C1D-41A8-A194-06661A6B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19BF0A-853A-4C5A-8AE5-41F3F978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3DF66E-8856-4A01-8FB7-BCC77383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208BAC-8473-4C55-921D-C58237FF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C3B1F7-4B96-46C3-93A4-FFB394ED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CE0C31-EB2B-423C-A831-6B5F8AC9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C18F8F-D443-49D7-ABC7-8A689710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32D766-5AF9-442F-B3A1-B34299A7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22ECCD-194F-4CD1-B5F6-0F44C9B2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72EA25-8F50-4DAB-912F-BDB55917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B647E8-0B34-4CBD-A287-59D167F2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BC534D-96EE-4542-8894-0402B363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6FA0EB-0F61-46F4-B180-760BC36B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CA70DA-6EEC-456D-B428-383BA560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9E3502-2E88-46BC-9F01-DEA888D4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82AE48-1525-43AC-95FB-6E4C04B0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10795E-6409-4929-9F55-35D98AE0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8F2D2B-E530-416D-8002-030B4105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CC0843-F5EE-487B-83FF-435491D2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B2377E-D0F3-4B36-8AA3-9A563A9B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2DE27F-9115-4CCA-8450-47015144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4B6A04-0C62-440E-A0A6-2726D9DE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7EC94D-4933-4759-A659-7FE89FEA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309494-E16D-4F5B-B59C-4FBF3838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CF1C82-8CFE-4B0F-A432-EB7BC042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450059-635C-474A-9A3C-3F0FE534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0F83A7-94E6-4118-B2E0-E438204D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8D73B4-EA68-4A8B-BAC3-49B1EE62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CAF0-CB6F-46BB-B5E1-E2A8B0A7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733687-3C75-46EE-88D1-DF50ADCD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A92C2B-F0A5-476F-A39C-1BA1735B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CB4506-F853-4F64-9721-0F0138FA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058242-EE93-4413-BA95-E3CA2D90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5A6346-D107-4E42-A3B6-97EB07E2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938FD7-77AC-44BD-8462-586BF83F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ABF1EC-2916-45F5-B35C-C84AAEB7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4A6C6F-1F64-42B2-8F71-41EA218C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D0393F-6A94-42C9-B463-AC62FB53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6B0132-D219-450F-BF26-45E27E09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DB8E22-611D-4DA6-9D1D-CFBC16AA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46E552-4111-429D-B3A0-B707E061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FC3B0C-A99D-458E-BC10-40E71057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B8F35C-32A7-4D48-93C5-2C78F258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CA1D9F-9373-479F-8548-D4E42F0B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7EFD7A-C244-4F4A-A536-C95F42D4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C098C8-A8F8-47EE-B86B-DE700B1F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B23CBD-8631-402F-8C3B-0A957D9D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13C3F2-EA36-4541-B4F2-0C6BCF56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3B3A42-DFD8-47AD-8BC5-4C266DF3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EB8BB3-4F19-42D5-82E1-4BF70CAF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43DD8C-2577-46F5-9E73-35C141AB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ABAA48-BFD9-406F-A7A8-8EECAC03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17F7A7-9872-430E-BA83-7ECA7384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25ED8B-53C0-4980-B1E4-C01BE364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01811E-6FD1-40C9-B3EF-334BBEDB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F6E047-A05E-4853-99FD-48793DE8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450F08-4730-4DA4-962D-0FA19A86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C0D508-1C0B-4F41-A6CE-FF2C40EF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7266D2-9241-4E2B-8FB8-40FE722B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5E6D93-CC73-427A-B1BC-3154E0E8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62F8AA-CF74-41DE-B71A-66130887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0E4DA5-4A6C-47A5-A7A0-3C003B1D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7BB446-3D72-4FF1-A92F-A7EF0717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97CC38-6C7C-4CFA-A985-9B451E7C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BFC61B-0D58-45EE-AD95-61BC94E6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7D69D4-9602-4292-BC0D-1C94911D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3B68F0-1494-4A8D-A1E4-49625B7B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C34C26-3819-4FBE-B7CE-26E7A242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EA0913-4C87-4647-96CA-DFFBB045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985748-0BD6-48D2-B328-5186D804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F5D97C-ADF8-4BF2-B304-704F4A5D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C7D04F-0CAB-46FA-B4D5-4F4E06D3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008DA0-A0CD-45A5-87F0-F74258A0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8B8706-0396-4955-B4A0-06F06FA4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03342C-ACFD-4B2C-8EC6-338E3D46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1E7170-FC35-43B8-9981-A28ECF49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7158D3-3FEC-4B5A-AD49-9AC654E4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FFC5C2-CFCE-4995-A81B-C0D47257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CCA0CF-E149-4230-AC0E-6389ED43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D1552-9B0D-4860-9EA9-E2698E6A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8458E9-0AE7-4914-BE39-E19703A7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A19C70-270F-459D-8F8C-26674936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7FFDEE-A73B-4208-AE16-D4102B8A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36A90-A731-4153-BC6B-81A8AEFA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2A83A-276E-42E9-A2C9-093EC667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06552-2A01-40E0-9AB0-45C932CD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AE510-CF69-493E-9355-CC894FBA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687A-ABF4-451B-9D5C-F46913C8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A0691-7931-4885-B6AC-F6A3F634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7B908-F6BE-4FC2-96DF-5EAA7054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CF96B-5973-4B9E-B53F-96CC0C6F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FC783-72A6-44DB-9A72-0E923916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292D4-C535-43E0-9EF7-5A3C3C2E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80D653-7E8C-49C8-98E8-C5815CE0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39CB2-B64F-4375-9312-66600A21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DDBC4C-AA25-4E2C-9B74-A641C7AE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E1243E-31CE-4F22-94BF-60031148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9AC68A-901C-486D-81B1-BB1149C3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EE9C-00AA-4F38-BF34-8103A921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B753F2-A580-40D8-9EA3-4A37ACE9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3701DE-A223-414B-9219-714897C5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AF29F8-92CB-4EC7-B5FE-281FCD64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B6C33E-869B-421D-862E-39B58FCA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B1865C-BDEB-4880-81E8-02E77761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8D1681-A917-4B93-8E83-FAC91267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1377FC-B7F2-4020-A4A7-5A945C7E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89F267-7CD1-4872-8D56-ED62B15A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277C65-A784-4B53-8862-DB5E22F0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7A9-7AC8-4705-857F-43A10AB5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5DEF-479F-4DAD-B480-CB035189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44D5FF-0ACD-4FB0-AA39-45BDF919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6AB6EE-21E4-40A7-8CE4-4BC64B01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6F1FF8-FEA6-414B-931D-02194DB5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013229-7BA7-45AB-99EC-6F631F7C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97CE6E-5172-454A-9B6D-AE6FB3A1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9DB67C-249B-4A23-A027-A3F3A154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910923-C6C7-479D-AAD4-9BF01E38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C913C5-1F68-4871-9BE8-7C8B154A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1F1A39-06AE-4288-95AC-D6A6AEFA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042-A976-4207-B2E1-D757F243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460E93-E823-48B4-B2B2-D93D9524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185DAC-12A2-4AB4-8D55-3DCC7973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5AE5EE-457A-4E9A-A8B1-F6D6845D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3F5424-0C3C-4F04-93DB-97B24C55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614864-551C-46FE-BFBB-FD6F9B98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83F01C-1D9C-42D3-9DBE-C174DD8C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509853-EE07-4D29-9599-102A295D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36D0FB-080F-4F00-BDC1-3A09D0CB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66835C-4F9F-4B3E-BDD7-2906740A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7696AC-3B36-46EE-9FCE-F545849D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C4B6-A26C-45CA-AD5E-047D4E44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425C05-17BE-498B-97FE-A2F07A47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603961-CD20-4BFD-88DF-82A3225E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3CBB80-BCF8-4B1C-83A5-9FE4A1B0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AE05DB-DAA3-4911-A953-0DA3754D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794976-8067-48F8-BA51-8054A1E6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A8FAE7-1E27-4A4C-A84B-AA3D72A2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2B37F3-6ACD-4150-9E60-5D690490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D7EC90-77BB-41FD-B5E2-7F876C12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AAB861-40C5-478D-8798-174E74A8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826424-5DB2-4B0A-AFB0-FEDD0FA8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D545-2D3F-41DD-9BE2-21A4A02A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4A9F29-2429-4E17-9032-763CA9DB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0F4951-F7C8-4F72-A7D1-D6D1624C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AD1EA2-8541-4988-94BE-ADEF86B1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9022D3-6927-4E90-BE87-962B3586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D9FA4B-2151-4C74-8695-1E6A99C8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DDF550-C7B5-4D05-BA96-8C17D829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6976B7-62A8-471A-ADB3-8B668067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16A2DB-30D0-454D-9897-07196186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B974B5-1F61-4501-889E-24454935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F4AD55-D8F9-4F99-81B2-711B266C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DE1B-A4A5-43E1-8CC3-28507BEC5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AC07-542A-48BA-AD6C-4B0D6FFD12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936D-D8C7-4C4D-B5AA-9317494029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52F6-EF1A-474B-BEB1-93CEC77C11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0647-3838-4D57-921D-8368E1D7D5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f944"/>
                </a:solidFill>
                <a:latin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DCC4-0295-4339-9586-9DAB405EC8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35a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f944"/>
                </a:solidFill>
                <a:latin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BE0C-80D6-4B77-BC20-9E9E79F728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239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87D6-3087-4090-9C4A-B4E3E10335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239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35a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4CE7-B046-4A4C-8FB6-1078E7B3F6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f944"/>
                </a:solidFill>
                <a:latin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DD41-EF8A-460B-A474-7C539A83A9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239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35a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8d3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e29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7084-C02E-4A34-9748-C319ED414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1D79-EAD1-43CE-9B9E-3FA826ED42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239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42DD-ED80-4E94-B75C-65B9BD1180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15D0-5105-4579-B822-A396655F47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239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35a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35a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82DE-FB42-44B9-B3E6-FC60033CC0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239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EA74-721B-48B9-AAAE-FD936313B1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8BCA-ED90-4319-805A-01D248EB99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34A0-897F-474D-9A0B-D93B5EA69E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ytoskeleton" TargetMode="External"/><Relationship Id="rId2" Type="http://schemas.openxmlformats.org/officeDocument/2006/relationships/hyperlink" Target="http://en.wikipedia.org/wiki/Nanometre" TargetMode="External"/><Relationship Id="rId3" Type="http://schemas.openxmlformats.org/officeDocument/2006/relationships/hyperlink" Target="http://en.wikipedia.org/wiki/Mitosis" TargetMode="External"/><Relationship Id="rId4" Type="http://schemas.openxmlformats.org/officeDocument/2006/relationships/hyperlink" Target="http://en.wikipedia.org/wiki/Cytokinesis" TargetMode="External"/><Relationship Id="rId5" Type="http://schemas.openxmlformats.org/officeDocument/2006/relationships/hyperlink" Target="http://en.wikipedia.org/wiki/Transport_vesicle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b606"/>
                </a:solidFill>
                <a:latin typeface="Arial"/>
              </a:rPr>
              <a:t>centrioles</a:t>
            </a:r>
            <a:endParaRPr b="0" lang="en-US" sz="28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Arial"/>
              </a:rPr>
              <a:t>By: Christina Hosp and Ty DuPree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are found in animal cells and play a role in cell division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replicate in interphase stage of mitosis and they help to organize the assembly of microtubules during cell division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called "basal bodies" form cilia and flagella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34" name="Picture 5" descr="centriolesfigure2"/>
          <p:cNvPicPr/>
          <p:nvPr/>
        </p:nvPicPr>
        <p:blipFill>
          <a:blip r:embed="rId1"/>
          <a:stretch/>
        </p:blipFill>
        <p:spPr>
          <a:xfrm>
            <a:off x="304920" y="457200"/>
            <a:ext cx="830556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ere are three fused microtubules in each group. The two centrioles are arranged such that one is perpendicular to the other. </a:t>
            </a: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and Basal Bodies </a:t>
            </a: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and Basal Bodies Basically these are the same thing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A centriole is made up of nine (9) sets of triplet microtubules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A centriole is commonly found in the centrosome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A important note is that plant cells commonly do not have centrioles and they are not required for division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A triplet contains one complete microtubule fused to two incomplete microtubules. The centriole is a short cylinder-like structure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e centriole is important in the formation of cilia or flagella, then it is called a basal body are typically thought in relation to cilium or flagellum, where as, centrioles are associated with the cytoskeleton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are surrounded by a densely staining material pericentriolar material, this is where most of the microtubules arise from, also in cells without centrioles, the microtubules are organized from this densely stained material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as mentioned earlier are often known for their role in cell division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seem to determine the position of the pericentriolar material, which in turn affects the polarity of the cell. </a:t>
            </a: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e Centrosome and the Centrioles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ANIMAL CELL CENTROSOME: The centrosome, also called the "microtubule organizing center", is an area in the cell where microtubles are produced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. Within an animal cell centrosome there is a pair of small organelles, the centrioles, each made up of a ring of nine groups of microtubules. There are three fused microtubules in each group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e two centrioles are arranged such that one is perpendicular to the other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During animal cell division, the centrosome divides and the centrioles replicate (make new copies). The result is two centrosomes, each with its own pair of centrioles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e two centrosomes move to opposite ends of the nucleus, and from each centrosome, microtubules grow into a "spindle" which is responsible for separating replicated chromosomes into the two daughter cells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PLANT CELL CENTROSOME: Plant cells have centrosomes that function much like animal cell centrosomes. However, unlike centrosomes in animal cells, they do not have centrioles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are cylindrical structures that are composed of groupings of microtubules arranged in a 9 + 3 pattern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e pattern is so named because a ring of nine microtubule "triplets" are arranged at right angles to one another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graphicFrame>
        <p:nvGraphicFramePr>
          <p:cNvPr id="926" name="Object 2"/>
          <p:cNvGraphicFramePr/>
          <p:nvPr/>
        </p:nvGraphicFramePr>
        <p:xfrm>
          <a:off x="457200" y="304920"/>
          <a:ext cx="8255160" cy="56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825516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Microtubules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are one of the components of the </a:t>
            </a:r>
            <a:r>
              <a:rPr b="0" lang="en-US" sz="20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cytoskeleton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. They have a diameter of 25 </a:t>
            </a:r>
            <a:r>
              <a:rPr b="0" lang="en-US" sz="2000" spc="-1" strike="noStrike" u="sng">
                <a:solidFill>
                  <a:srgbClr val="00b0f0"/>
                </a:solidFill>
                <a:uFillTx/>
                <a:latin typeface="Arial"/>
                <a:hlinkClick r:id="rId2"/>
              </a:rPr>
              <a:t>nm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and length varying from 200 nanometers to 25 micrometers. Microtubules serve as structural components within cells and are involved in many cellular processes including </a:t>
            </a:r>
            <a:r>
              <a:rPr b="0" lang="en-US" sz="2000" spc="-1" strike="noStrike" u="sng">
                <a:solidFill>
                  <a:srgbClr val="00b0f0"/>
                </a:solidFill>
                <a:uFillTx/>
                <a:latin typeface="Arial"/>
                <a:hlinkClick r:id="rId3"/>
              </a:rPr>
              <a:t>mitosis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b0f0"/>
                </a:solidFill>
                <a:uFillTx/>
                <a:latin typeface="Arial"/>
                <a:hlinkClick r:id="rId4"/>
              </a:rPr>
              <a:t>cytokinesis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, and </a:t>
            </a:r>
            <a:r>
              <a:rPr b="0" lang="en-US" sz="2000" spc="-1" strike="noStrike" u="sng">
                <a:solidFill>
                  <a:srgbClr val="00b0f0"/>
                </a:solidFill>
                <a:uFillTx/>
                <a:latin typeface="Arial"/>
                <a:hlinkClick r:id="rId5"/>
              </a:rPr>
              <a:t>vesicular transport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5:06:33Z</dcterms:created>
  <dc:creator>Gupta</dc:creator>
  <dc:description/>
  <dc:language>en-US</dc:language>
  <cp:lastModifiedBy>Christina Hosp</cp:lastModifiedBy>
  <dcterms:modified xsi:type="dcterms:W3CDTF">2013-11-13T20:37:35Z</dcterms:modified>
  <cp:revision>7</cp:revision>
  <dc:subject/>
  <dc:title>centrioles</dc:title>
</cp:coreProperties>
</file>