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38160" y="4788000"/>
            <a:ext cx="12928680" cy="1904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425320"/>
            <a:ext cx="11633040" cy="231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5130360"/>
            <a:ext cx="1163304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5544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9536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3564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95720"/>
            <a:ext cx="1163304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5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8686800"/>
            <a:ext cx="11633040" cy="63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"/>
          </a:bodyPr>
          <a:p>
            <a:pPr indent="0"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851040" y="520560"/>
            <a:ext cx="11277360" cy="729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5544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9536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3564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 rot="80400">
            <a:off x="837720" y="4737240"/>
            <a:ext cx="5245200" cy="25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41308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5054760"/>
            <a:ext cx="5562720" cy="125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 rot="5400000">
            <a:off x="6378120" y="2147400"/>
            <a:ext cx="6769080" cy="539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556272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56120" y="2692080"/>
            <a:ext cx="556236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2692080"/>
            <a:ext cx="556272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 rot="5400000">
            <a:off x="6378120" y="3227040"/>
            <a:ext cx="6769080" cy="539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149640"/>
            <a:ext cx="116330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800" y="533520"/>
            <a:ext cx="11633040" cy="868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6516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40976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5436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425320"/>
            <a:ext cx="11633040" cy="231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NUCLEUS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5130360"/>
            <a:ext cx="1163304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Wesley Bergen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Structure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95360" y="255240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nuclear membrane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nucleoplasm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nucleolu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hromatin materia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4591080" y="3200400"/>
            <a:ext cx="7524720" cy="50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Basics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discovered by Robert Brown in 1831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it is the most important part of the cell, exerting a controlling influence on all cell activitie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usually spherical 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mostly located in the center of the cel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Functions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hief controlling centre of the cell, containing genes and chromosome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ontains metabolic activity taking place in the cel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ose activities are controlled by enzyme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ynthesis and regulations of activities of enzymes are controlled by the nucleus 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